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3.jpeg" ContentType="image/jpeg"/>
  <Override PartName="/ppt/media/image45.png" ContentType="image/png"/>
  <Override PartName="/ppt/media/image35.jpeg" ContentType="image/jpeg"/>
  <Override PartName="/ppt/media/image10.png" ContentType="image/png"/>
  <Override PartName="/ppt/media/image27.jpeg" ContentType="image/jpeg"/>
  <Override PartName="/ppt/media/image40.png" ContentType="image/png"/>
  <Override PartName="/ppt/media/image8.jpeg" ContentType="image/jpeg"/>
  <Override PartName="/ppt/media/image38.png" ContentType="image/png"/>
  <Override PartName="/ppt/media/image31.jpeg" ContentType="image/jpeg"/>
  <Override PartName="/ppt/media/image41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84C1-B99F-4F72-9300-B9445E61C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98E9-3631-4503-AA9E-D687A947E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A618-F1C3-44E4-9FF6-15380253D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D027-5DCC-49F5-9258-CD44AF9F7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688B-D4A5-4A95-9107-5F0446A78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CF4E-ABDF-4FC1-B1B6-FAE517A9E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612D-E871-4B3A-9CFA-8FA7C4E83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03E6-59AB-4C8C-B265-8B5244379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446F-7ABD-486E-8413-4862ABFA8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3EA5-1564-4244-BD93-7CF48B035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51DE-F010-4C26-AFB3-86F4B4442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F2CB-0C12-4D51-9E0B-8BC484E2C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CD32-2A3E-4764-9C6D-D8A8ACC3D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E2B2-7D10-4A6D-B5E6-8933E43E8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4802-6F2B-4154-A854-C8F87D5BD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908E-800C-41B6-84CE-C7E321E82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E0C7-5ED2-4910-8C14-4768956FC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C798-4549-445E-A554-1881FFCE8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8A7A-ED9A-49C4-8036-0024330A9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C4D7-9D06-47A7-9967-C8752AC4C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4535-6A56-4439-90A5-E2679D540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1F14-F09A-4631-895A-2587E50E6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7914-D790-4BA4-A2E9-82C17F8C3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24D5-E47E-4B91-9D02-0935DAD06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9DCD-65E9-40D2-AD93-BC27E043C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DFFF-7EE7-4697-B452-0CC957E97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B50C-9201-452E-8EAC-794B2C5DB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C7FA-78CA-4E4E-9D38-77134D13B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040-94FB-41DC-B9DA-C68B3ECC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2B3-5EE4-4A7B-9511-1618A302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B24-EFF7-4937-9861-B72A7011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138-3CB4-4792-A125-F2A60063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446-D108-4528-9258-5B58AFEF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201-F37B-48C6-86E7-0B021F7E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44F1-6039-4636-B500-D39BBC01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4A1C-A80E-46A2-BCF6-C854F95E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490-D67A-4A4C-8D57-8922A0BA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CC2-03D3-47B2-BBA0-C3B95417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565-0C1F-460C-ADA6-5D052231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A85-FE72-4F79-A050-A4A3D012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03A7-55DE-4983-A862-A90E56063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owerpoint 8"/>
          <p:cNvPicPr/>
          <p:nvPr/>
        </p:nvPicPr>
        <p:blipFill>
          <a:blip r:embed="rId1"/>
          <a:stretch/>
        </p:blipFill>
        <p:spPr>
          <a:xfrm>
            <a:off x="2448000" y="333360"/>
            <a:ext cx="4248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owerpoint 10"/>
          <p:cNvPicPr/>
          <p:nvPr/>
        </p:nvPicPr>
        <p:blipFill>
          <a:blip r:embed="rId1"/>
          <a:stretch/>
        </p:blipFill>
        <p:spPr>
          <a:xfrm>
            <a:off x="276120" y="-95400"/>
            <a:ext cx="8591760" cy="70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owerpoint 11"/>
          <p:cNvPicPr/>
          <p:nvPr/>
        </p:nvPicPr>
        <p:blipFill>
          <a:blip r:embed="rId1"/>
          <a:stretch/>
        </p:blipFill>
        <p:spPr>
          <a:xfrm>
            <a:off x="1452600" y="314280"/>
            <a:ext cx="6238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owerpoint 12"/>
          <p:cNvPicPr/>
          <p:nvPr/>
        </p:nvPicPr>
        <p:blipFill>
          <a:blip r:embed="rId1"/>
          <a:stretch/>
        </p:blipFill>
        <p:spPr>
          <a:xfrm>
            <a:off x="1452600" y="314280"/>
            <a:ext cx="6238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owerpoint 13"/>
          <p:cNvPicPr/>
          <p:nvPr/>
        </p:nvPicPr>
        <p:blipFill>
          <a:blip r:embed="rId1"/>
          <a:stretch/>
        </p:blipFill>
        <p:spPr>
          <a:xfrm>
            <a:off x="1452600" y="314280"/>
            <a:ext cx="6238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owerpoint 14"/>
          <p:cNvPicPr/>
          <p:nvPr/>
        </p:nvPicPr>
        <p:blipFill>
          <a:blip r:embed="rId1"/>
          <a:stretch/>
        </p:blipFill>
        <p:spPr>
          <a:xfrm>
            <a:off x="700200" y="1252440"/>
            <a:ext cx="77436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owerpoint 15"/>
          <p:cNvPicPr/>
          <p:nvPr/>
        </p:nvPicPr>
        <p:blipFill>
          <a:blip r:embed="rId1"/>
          <a:stretch/>
        </p:blipFill>
        <p:spPr>
          <a:xfrm>
            <a:off x="1533600" y="1747800"/>
            <a:ext cx="60768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_40153810_district2_map203"/>
          <p:cNvPicPr/>
          <p:nvPr/>
        </p:nvPicPr>
        <p:blipFill>
          <a:blip r:embed="rId1"/>
          <a:stretch/>
        </p:blipFill>
        <p:spPr>
          <a:xfrm>
            <a:off x="3605040" y="1838160"/>
            <a:ext cx="1933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_40153814_district24_map203"/>
          <p:cNvPicPr/>
          <p:nvPr/>
        </p:nvPicPr>
        <p:blipFill>
          <a:blip r:embed="rId1"/>
          <a:stretch/>
        </p:blipFill>
        <p:spPr>
          <a:xfrm>
            <a:off x="3605040" y="1838160"/>
            <a:ext cx="1933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powerpoint 16"/>
          <p:cNvPicPr/>
          <p:nvPr/>
        </p:nvPicPr>
        <p:blipFill>
          <a:blip r:embed="rId1"/>
          <a:stretch/>
        </p:blipFill>
        <p:spPr>
          <a:xfrm>
            <a:off x="1866960" y="1395360"/>
            <a:ext cx="54100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owerpoint2"/>
          <p:cNvPicPr/>
          <p:nvPr/>
        </p:nvPicPr>
        <p:blipFill>
          <a:blip r:embed="rId1"/>
          <a:stretch/>
        </p:blipFill>
        <p:spPr>
          <a:xfrm>
            <a:off x="1862280" y="1662120"/>
            <a:ext cx="5419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powerpoint 18"/>
          <p:cNvPicPr/>
          <p:nvPr/>
        </p:nvPicPr>
        <p:blipFill>
          <a:blip r:embed="rId1"/>
          <a:stretch/>
        </p:blipFill>
        <p:spPr>
          <a:xfrm>
            <a:off x="1938240" y="1347840"/>
            <a:ext cx="52675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powerpoint dakota"/>
          <p:cNvPicPr/>
          <p:nvPr/>
        </p:nvPicPr>
        <p:blipFill>
          <a:blip r:embed="rId1"/>
          <a:stretch/>
        </p:blipFill>
        <p:spPr>
          <a:xfrm>
            <a:off x="2457360" y="762120"/>
            <a:ext cx="4229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powerpoint 17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powerpoint 17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owerpoint 17"/>
          <p:cNvPicPr/>
          <p:nvPr/>
        </p:nvPicPr>
        <p:blipFill>
          <a:blip r:embed="rId3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Solid South 80-60"/>
          <p:cNvPicPr/>
          <p:nvPr/>
        </p:nvPicPr>
        <p:blipFill>
          <a:blip r:embed="rId1"/>
          <a:stretch/>
        </p:blipFill>
        <p:spPr>
          <a:xfrm>
            <a:off x="1871640" y="1981080"/>
            <a:ext cx="5400720" cy="289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powerpoint 45"/>
          <p:cNvPicPr/>
          <p:nvPr/>
        </p:nvPicPr>
        <p:blipFill>
          <a:blip r:embed="rId2"/>
          <a:stretch/>
        </p:blipFill>
        <p:spPr>
          <a:xfrm>
            <a:off x="1876320" y="262080"/>
            <a:ext cx="539136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Solid South 64-04"/>
          <p:cNvPicPr/>
          <p:nvPr/>
        </p:nvPicPr>
        <p:blipFill>
          <a:blip r:embed="rId1"/>
          <a:stretch/>
        </p:blipFill>
        <p:spPr>
          <a:xfrm>
            <a:off x="1871640" y="1981080"/>
            <a:ext cx="5400720" cy="2895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powerpoint 46"/>
          <p:cNvPicPr/>
          <p:nvPr/>
        </p:nvPicPr>
        <p:blipFill>
          <a:blip r:embed="rId2"/>
          <a:stretch/>
        </p:blipFill>
        <p:spPr>
          <a:xfrm>
            <a:off x="1947960" y="1647720"/>
            <a:ext cx="5248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powerpoint 19"/>
          <p:cNvPicPr/>
          <p:nvPr/>
        </p:nvPicPr>
        <p:blipFill>
          <a:blip r:embed="rId1"/>
          <a:stretch/>
        </p:blipFill>
        <p:spPr>
          <a:xfrm>
            <a:off x="1195560" y="1309680"/>
            <a:ext cx="6752880" cy="423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powerpoint 19"/>
          <p:cNvPicPr/>
          <p:nvPr/>
        </p:nvPicPr>
        <p:blipFill>
          <a:blip r:embed="rId2"/>
          <a:stretch/>
        </p:blipFill>
        <p:spPr>
          <a:xfrm>
            <a:off x="1195560" y="1309680"/>
            <a:ext cx="67528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00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D:\Anglo seminari 2012\5 i 4-5\Predsjednički izbori\Sl.1. Pobjednički kandidati po saveznim državama na američkim predsjedničkim izborima 2000. godine.jpg"/>
          <p:cNvPicPr/>
          <p:nvPr/>
        </p:nvPicPr>
        <p:blipFill>
          <a:blip r:embed="rId2"/>
          <a:stretch/>
        </p:blipFill>
        <p:spPr>
          <a:xfrm>
            <a:off x="826920" y="1773360"/>
            <a:ext cx="7596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04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D:\Anglo seminari 2012\5 i 4-5\Predsjednički izbori\Sl.2. Pobjednički kandidati po saveznim državama na američkim predsjedničkim izborima 2004. godine.jpg"/>
          <p:cNvPicPr/>
          <p:nvPr/>
        </p:nvPicPr>
        <p:blipFill>
          <a:blip r:embed="rId2"/>
          <a:stretch/>
        </p:blipFill>
        <p:spPr>
          <a:xfrm>
            <a:off x="900000" y="1881360"/>
            <a:ext cx="7667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08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D:\Anglo seminari 2012\5 i 4-5\Predsjednički izbori\Sl.3. Pobjednički kandidati po saveznim državama na američkim predsjedničkim izborima 2008. godine.jpg"/>
          <p:cNvPicPr/>
          <p:nvPr/>
        </p:nvPicPr>
        <p:blipFill>
          <a:blip r:embed="rId2"/>
          <a:stretch/>
        </p:blipFill>
        <p:spPr>
          <a:xfrm>
            <a:off x="108000" y="1963800"/>
            <a:ext cx="7523280" cy="376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Anglo seminari 2012\5 i 4-5\Predsjednički izbori\Sl.3. Pobjednički kandidati po saveznim državama na američkim predsjedničkim izborima 2008. godine.jpg"/>
          <p:cNvPicPr/>
          <p:nvPr/>
        </p:nvPicPr>
        <p:blipFill>
          <a:blip r:embed="rId3"/>
          <a:stretch/>
        </p:blipFill>
        <p:spPr>
          <a:xfrm>
            <a:off x="539640" y="1819440"/>
            <a:ext cx="809964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12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D:\Anglo seminari 2012\5 i 4-5\Predsjednički izbori\Sl.4. Pobjednički kandidati po saveznim državama na američkim predsjedničkim izborima 2012. godine.jpg"/>
          <p:cNvPicPr/>
          <p:nvPr/>
        </p:nvPicPr>
        <p:blipFill>
          <a:blip r:embed="rId2"/>
          <a:stretch/>
        </p:blipFill>
        <p:spPr>
          <a:xfrm>
            <a:off x="539640" y="1628640"/>
            <a:ext cx="86043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owerpoint 2"/>
          <p:cNvPicPr/>
          <p:nvPr/>
        </p:nvPicPr>
        <p:blipFill>
          <a:blip r:embed="rId1"/>
          <a:stretch/>
        </p:blipFill>
        <p:spPr>
          <a:xfrm>
            <a:off x="2057400" y="1724040"/>
            <a:ext cx="50292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i izbora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s://upload.wikimedia.org/wikipedia/commons/thumb/e/ec/ElectoralCollege2016.svg/1020px-ElectoralCollege2016.svg.png"/>
          <p:cNvPicPr/>
          <p:nvPr/>
        </p:nvPicPr>
        <p:blipFill>
          <a:blip r:embed="rId1"/>
          <a:stretch/>
        </p:blipFill>
        <p:spPr>
          <a:xfrm>
            <a:off x="679320" y="1600200"/>
            <a:ext cx="778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powerpoint 44"/>
          <p:cNvPicPr/>
          <p:nvPr/>
        </p:nvPicPr>
        <p:blipFill>
          <a:blip r:embed="rId1"/>
          <a:stretch/>
        </p:blipFill>
        <p:spPr>
          <a:xfrm>
            <a:off x="804960" y="685800"/>
            <a:ext cx="7534080" cy="548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powerpoint 44"/>
          <p:cNvPicPr/>
          <p:nvPr/>
        </p:nvPicPr>
        <p:blipFill>
          <a:blip r:embed="rId2"/>
          <a:stretch/>
        </p:blipFill>
        <p:spPr>
          <a:xfrm>
            <a:off x="804960" y="685800"/>
            <a:ext cx="7534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ržave bojišnice na izborima 2012. - progn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zervirano mjesto sadržaja 3" descr="swing prognoza.bmp"/>
          <p:cNvPicPr/>
          <p:nvPr/>
        </p:nvPicPr>
        <p:blipFill>
          <a:blip r:embed="rId1"/>
          <a:stretch/>
        </p:blipFill>
        <p:spPr>
          <a:xfrm>
            <a:off x="808200" y="1600200"/>
            <a:ext cx="752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e bojišnice na izborima 20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s://upload.wikimedia.org/wikipedia/commons/e/e1/Swing-2016.png"/>
          <p:cNvPicPr/>
          <p:nvPr/>
        </p:nvPicPr>
        <p:blipFill>
          <a:blip r:embed="rId1"/>
          <a:stretch/>
        </p:blipFill>
        <p:spPr>
          <a:xfrm>
            <a:off x="851040" y="1697040"/>
            <a:ext cx="74419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powerpoint 21"/>
          <p:cNvPicPr/>
          <p:nvPr/>
        </p:nvPicPr>
        <p:blipFill>
          <a:blip r:embed="rId1"/>
          <a:stretch/>
        </p:blipFill>
        <p:spPr>
          <a:xfrm>
            <a:off x="1562040" y="1214280"/>
            <a:ext cx="6019920" cy="4429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powerpoint 21"/>
          <p:cNvPicPr/>
          <p:nvPr/>
        </p:nvPicPr>
        <p:blipFill>
          <a:blip r:embed="rId2"/>
          <a:stretch/>
        </p:blipFill>
        <p:spPr>
          <a:xfrm>
            <a:off x="1562040" y="1214280"/>
            <a:ext cx="601992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powerpoint 22"/>
          <p:cNvPicPr/>
          <p:nvPr/>
        </p:nvPicPr>
        <p:blipFill>
          <a:blip r:embed="rId1"/>
          <a:stretch/>
        </p:blipFill>
        <p:spPr>
          <a:xfrm>
            <a:off x="1376280" y="1114560"/>
            <a:ext cx="639144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ferencije bijelaca (veljača-studeni 20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Rezervirano mjesto sadržaja 3" descr="bijeli nehispano.bmp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ferencije crnaca (veljača-studeni 20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Rezervirano mjesto sadržaja 3" descr="crni nehispano.bmp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owerpoint 36"/>
          <p:cNvPicPr/>
          <p:nvPr/>
        </p:nvPicPr>
        <p:blipFill>
          <a:blip r:embed="rId1"/>
          <a:stretch/>
        </p:blipFill>
        <p:spPr>
          <a:xfrm>
            <a:off x="371520" y="1585800"/>
            <a:ext cx="84009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powerpoint 38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Čuvanje interesa malih drž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owerpoint 3"/>
          <p:cNvPicPr/>
          <p:nvPr/>
        </p:nvPicPr>
        <p:blipFill>
          <a:blip r:embed="rId1"/>
          <a:stretch/>
        </p:blipFill>
        <p:spPr>
          <a:xfrm>
            <a:off x="1862280" y="1662120"/>
            <a:ext cx="5419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lasovi na izborima 2016. prema dobi i rasi (plavo Clinton, crveno Tru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33360" y="1552680"/>
          <a:ext cx="4006800" cy="4620960"/>
        </p:xfrm>
        <a:graphic>
          <a:graphicData uri="http://schemas.openxmlformats.org/drawingml/2006/table">
            <a:tbl>
              <a:tblPr/>
              <a:tblGrid>
                <a:gridCol w="1335240"/>
                <a:gridCol w="1336680"/>
                <a:gridCol w="1334880"/>
              </a:tblGrid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18-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18-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18-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30-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30312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30-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30-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312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45-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45-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45-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53100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65 and ol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53100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65 and ol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5313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65 and ol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Oth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powerpoint 43"/>
          <p:cNvPicPr/>
          <p:nvPr/>
        </p:nvPicPr>
        <p:blipFill>
          <a:blip r:embed="rId1"/>
          <a:stretch/>
        </p:blipFill>
        <p:spPr>
          <a:xfrm>
            <a:off x="2281320" y="866880"/>
            <a:ext cx="458136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Povezana slika"/>
          <p:cNvPicPr/>
          <p:nvPr/>
        </p:nvPicPr>
        <p:blipFill>
          <a:blip r:embed="rId1"/>
          <a:stretch/>
        </p:blipFill>
        <p:spPr>
          <a:xfrm>
            <a:off x="762120" y="1814400"/>
            <a:ext cx="761976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Čuvanje interesa velikih drž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owerpoint 4"/>
          <p:cNvPicPr/>
          <p:nvPr/>
        </p:nvPicPr>
        <p:blipFill>
          <a:blip r:embed="rId1"/>
          <a:stretch/>
        </p:blipFill>
        <p:spPr>
          <a:xfrm>
            <a:off x="2219400" y="1467000"/>
            <a:ext cx="47052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ko pobjednik narodnog glasanja može dobiti većinu glasova elekt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upload.wikimedia.org/wikipedia/commons/5/51/PopWinnerLosesElecVote.png"/>
          <p:cNvPicPr/>
          <p:nvPr/>
        </p:nvPicPr>
        <p:blipFill>
          <a:blip r:embed="rId1"/>
          <a:stretch/>
        </p:blipFill>
        <p:spPr>
          <a:xfrm>
            <a:off x="2895480" y="2224080"/>
            <a:ext cx="335304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Broj narodnih glasova na izborima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s://upload.wikimedia.org/wikipedia/commons/thumb/7/7d/United_States_presidential_election%2C_2016_Cartogram.png/498px-United_States_presidential_election%2C_2016_Cartogram.png"/>
          <p:cNvPicPr/>
          <p:nvPr/>
        </p:nvPicPr>
        <p:blipFill>
          <a:blip r:embed="rId1"/>
          <a:stretch/>
        </p:blipFill>
        <p:spPr>
          <a:xfrm>
            <a:off x="1409760" y="1959120"/>
            <a:ext cx="63244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i izbora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upload.wikimedia.org/wikipedia/commons/thumb/e/ec/ElectoralCollege2016.svg/1020px-ElectoralCollege2016.svg.png"/>
          <p:cNvPicPr/>
          <p:nvPr/>
        </p:nvPicPr>
        <p:blipFill>
          <a:blip r:embed="rId1"/>
          <a:stretch/>
        </p:blipFill>
        <p:spPr>
          <a:xfrm>
            <a:off x="679320" y="1600200"/>
            <a:ext cx="778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051485A"/>
          <p:cNvPicPr/>
          <p:nvPr/>
        </p:nvPicPr>
        <p:blipFill>
          <a:blip r:embed="rId1"/>
          <a:stretch/>
        </p:blipFill>
        <p:spPr>
          <a:xfrm>
            <a:off x="2666880" y="1270080"/>
            <a:ext cx="38102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4:44:34Z</dcterms:created>
  <dc:creator>Your User Name</dc:creator>
  <dc:description/>
  <dc:language>en-US</dc:language>
  <cp:lastModifiedBy>Laura Šakaja</cp:lastModifiedBy>
  <dcterms:modified xsi:type="dcterms:W3CDTF">2018-12-04T09:54:11Z</dcterms:modified>
  <cp:revision>43</cp:revision>
  <dc:subject/>
  <dc:title>Slide 1</dc:title>
</cp:coreProperties>
</file>